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D36F-1EC5-48B2-802C-0483803A3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6E6B3-53F0-4335-B3B4-98B844C1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1CEFC-C5B6-4487-B452-805D6039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3280-F111-4D19-9F77-19F9659B8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1A8E-67A3-41AA-8D52-C3FEFD98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142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44080"/>
            <a:ext cx="27723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0C3EC-9901-46C8-95FC-B2334D2E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378A-4627-4280-967D-833ACCCE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81B5-AA71-4917-8A33-11038E15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35712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CEB3-7904-4348-8184-8B858153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6EFF-414E-4F85-B85B-3FD9FB8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440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11A5-714D-4E6E-ADEA-F819A00F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348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14280"/>
            <a:ext cx="420156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44080"/>
            <a:ext cx="8610480" cy="240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F055-FC7B-49ED-9179-D2FC5781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7C5C-8DAB-42A3-A4A9-A9871CCBF8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六节   咯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身体评估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生命体征、意识状态、营养状况等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头部及其器官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注意有无口腔及鼻腔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廓与肺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胸骨压痛、异常呼吸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ts val="3498"/>
              </a:lnSpc>
              <a:spcBef>
                <a:spcPts val="649"/>
              </a:spcBef>
              <a:buClr>
                <a:srgbClr val="046ca6"/>
              </a:buClr>
              <a:buSzPct val="7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有无心音强度的变化（尤其是有无 </a:t>
            </a:r>
            <a:r>
              <a:rPr b="0" lang="en-US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P2 </a:t>
            </a:r>
            <a:r>
              <a:rPr b="0" lang="zh-CN" sz="2600" spc="-1" strike="noStrike">
                <a:solidFill>
                  <a:srgbClr val="692aa2"/>
                </a:solidFill>
                <a:latin typeface="华文楷体"/>
                <a:ea typeface="华文楷体"/>
              </a:rPr>
              <a:t>亢进）、有无病理性杂音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85480" y="121392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血气分析等实验室检查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或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、纤维支气管镜检查等影像学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ts val="3498"/>
              </a:lnSpc>
              <a:spcBef>
                <a:spcPts val="700"/>
              </a:spcBef>
              <a:buClr>
                <a:srgbClr val="8ac8d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功能检查、结核菌素试验等检查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窒息、失血性休克、肺不张、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组织灌注量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反复咯血有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隶书"/>
              </a:rPr>
              <a:t>恐惧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大量咯血有关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概念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喉及喉部以下的呼吸道和肺组织出血并经口腔排出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可以是大量咯血、血痰或痰中带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5480" y="1213920"/>
            <a:ext cx="8286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呼吸系统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有支气管扩张症、支气管扩张症、支气管肺癌、肺结核、支气管内膜结核肺脓肿、慢性支气管炎、肺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928800" y="4000680"/>
            <a:ext cx="7215120" cy="1869840"/>
            <a:chOff x="928800" y="4000680"/>
            <a:chExt cx="7215120" cy="1869840"/>
          </a:xfrm>
        </p:grpSpPr>
        <p:grpSp>
          <p:nvGrpSpPr>
            <p:cNvPr id="112" name="组合 44"/>
            <p:cNvGrpSpPr/>
            <p:nvPr/>
          </p:nvGrpSpPr>
          <p:grpSpPr>
            <a:xfrm>
              <a:off x="928800" y="4000680"/>
              <a:ext cx="7215120" cy="1071360"/>
              <a:chOff x="928800" y="4000680"/>
              <a:chExt cx="7215120" cy="1071360"/>
            </a:xfrm>
          </p:grpSpPr>
          <p:grpSp>
            <p:nvGrpSpPr>
              <p:cNvPr id="113" name="组合 32"/>
              <p:cNvGrpSpPr/>
              <p:nvPr/>
            </p:nvGrpSpPr>
            <p:grpSpPr>
              <a:xfrm>
                <a:off x="928800" y="4000680"/>
                <a:ext cx="5688720" cy="1071360"/>
                <a:chOff x="928800" y="4000680"/>
                <a:chExt cx="5688720" cy="1071360"/>
              </a:xfrm>
            </p:grpSpPr>
            <p:grpSp>
              <p:nvGrpSpPr>
                <p:cNvPr id="114" name="Group 21"/>
                <p:cNvGrpSpPr/>
                <p:nvPr/>
              </p:nvGrpSpPr>
              <p:grpSpPr>
                <a:xfrm>
                  <a:off x="2011320" y="4000680"/>
                  <a:ext cx="4606200" cy="1071360"/>
                  <a:chOff x="2011320" y="4000680"/>
                  <a:chExt cx="4606200" cy="1071360"/>
                </a:xfrm>
              </p:grpSpPr>
              <p:sp>
                <p:nvSpPr>
                  <p:cNvPr id="115" name="Rectangle 6"/>
                  <p:cNvSpPr/>
                  <p:nvPr/>
                </p:nvSpPr>
                <p:spPr>
                  <a:xfrm>
                    <a:off x="2807640" y="4214520"/>
                    <a:ext cx="1877400" cy="64260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支气管黏膜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病灶处毛细血管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7"/>
                  <p:cNvSpPr/>
                  <p:nvPr/>
                </p:nvSpPr>
                <p:spPr>
                  <a:xfrm>
                    <a:off x="5292360" y="4000680"/>
                    <a:ext cx="1325160" cy="3747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通透性增高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Rectangle 8"/>
                  <p:cNvSpPr/>
                  <p:nvPr/>
                </p:nvSpPr>
                <p:spPr>
                  <a:xfrm>
                    <a:off x="5292360" y="4696920"/>
                    <a:ext cx="1325160" cy="37512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血管破裂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118" name="AutoShape 12"/>
                  <p:cNvCxnSpPr>
                    <a:stCxn id="115" idx="1"/>
                    <a:endCxn id="115" idx="3"/>
                  </p:cNvCxnSpPr>
                  <p:nvPr/>
                </p:nvCxnSpPr>
                <p:spPr>
                  <a:xfrm>
                    <a:off x="2797200" y="4535640"/>
                    <a:ext cx="1898640" cy="1080"/>
                  </a:xfrm>
                  <a:prstGeom prst="straightConnector1">
                    <a:avLst/>
                  </a:prstGeom>
                  <a:ln cap="rnd" w="12600">
                    <a:solidFill>
                      <a:srgbClr val="009e75"/>
                    </a:solidFill>
                    <a:custDash>
                      <a:ds d="100000" sp="1000"/>
                    </a:custDash>
                    <a:miter/>
                  </a:ln>
                </p:spPr>
              </p:cxnSp>
              <p:cxnSp>
                <p:nvCxnSpPr>
                  <p:cNvPr id="119" name="AutoShape 13"/>
                  <p:cNvCxnSpPr>
                    <a:stCxn id="115" idx="3"/>
                    <a:endCxn id="116" idx="1"/>
                  </p:cNvCxnSpPr>
                  <p:nvPr/>
                </p:nvCxnSpPr>
                <p:spPr>
                  <a:xfrm flipV="1">
                    <a:off x="4695120" y="4187880"/>
                    <a:ext cx="587160" cy="34848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0" name="AutoShape 14"/>
                  <p:cNvCxnSpPr>
                    <a:stCxn id="115" idx="3"/>
                    <a:endCxn id="117" idx="1"/>
                  </p:cNvCxnSpPr>
                  <p:nvPr/>
                </p:nvCxnSpPr>
                <p:spPr>
                  <a:xfrm>
                    <a:off x="4695120" y="4535640"/>
                    <a:ext cx="587160" cy="348840"/>
                  </a:xfrm>
                  <a:prstGeom prst="straightConnector1">
                    <a:avLst/>
                  </a:prstGeom>
                  <a:ln w="28440">
                    <a:solidFill>
                      <a:srgbClr val="009e75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121" name="AutoShape 19"/>
                  <p:cNvCxnSpPr/>
                  <p:nvPr/>
                </p:nvCxnSpPr>
                <p:spPr>
                  <a:xfrm>
                    <a:off x="2011320" y="4570920"/>
                    <a:ext cx="767880" cy="1440"/>
                  </a:xfrm>
                  <a:prstGeom prst="straightConnector1">
                    <a:avLst/>
                  </a:prstGeom>
                  <a:ln w="28440">
                    <a:solidFill>
                      <a:srgbClr val="6600cc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122" name="Rectangle 8"/>
                <p:cNvSpPr/>
                <p:nvPr/>
              </p:nvSpPr>
              <p:spPr>
                <a:xfrm>
                  <a:off x="928800" y="4357800"/>
                  <a:ext cx="104004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病变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" name="AutoShape 13"/>
              <p:cNvCxnSpPr/>
              <p:nvPr/>
            </p:nvCxnSpPr>
            <p:spPr>
              <a:xfrm>
                <a:off x="6617520" y="4205880"/>
                <a:ext cx="694440" cy="29520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24" name="AutoShape 14"/>
              <p:cNvCxnSpPr>
                <a:stCxn id="117" idx="3"/>
              </p:cNvCxnSpPr>
              <p:nvPr/>
            </p:nvCxnSpPr>
            <p:spPr>
              <a:xfrm flipV="1">
                <a:off x="6617520" y="4500360"/>
                <a:ext cx="694440" cy="38448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grpSp>
            <p:nvGrpSpPr>
              <p:cNvPr id="125" name="组合 43"/>
              <p:cNvGrpSpPr/>
              <p:nvPr/>
            </p:nvGrpSpPr>
            <p:grpSpPr>
              <a:xfrm>
                <a:off x="7311600" y="4286160"/>
                <a:ext cx="832320" cy="398880"/>
                <a:chOff x="7311600" y="4286160"/>
                <a:chExt cx="832320" cy="398880"/>
              </a:xfrm>
            </p:grpSpPr>
            <p:sp>
              <p:nvSpPr>
                <p:cNvPr id="126" name="Rectangle 6"/>
                <p:cNvSpPr/>
                <p:nvPr/>
              </p:nvSpPr>
              <p:spPr>
                <a:xfrm>
                  <a:off x="7311600" y="4286160"/>
                  <a:ext cx="83232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7" name="TextBox 42"/>
                <p:cNvSpPr/>
                <p:nvPr/>
              </p:nvSpPr>
              <p:spPr>
                <a:xfrm>
                  <a:off x="7476480" y="42861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咯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TextBox 48"/>
            <p:cNvSpPr/>
            <p:nvPr/>
          </p:nvSpPr>
          <p:spPr>
            <a:xfrm>
              <a:off x="3643200" y="5500800"/>
              <a:ext cx="1785960" cy="36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9" name="矩形 46"/>
          <p:cNvSpPr/>
          <p:nvPr/>
        </p:nvSpPr>
        <p:spPr>
          <a:xfrm>
            <a:off x="4109400" y="5429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出血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血管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二尖瓣狭窄、原发性肺动脉高压症、其他原因所致的肺动脉高压、肺梗死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" name="组合 5"/>
          <p:cNvGrpSpPr/>
          <p:nvPr/>
        </p:nvGrpSpPr>
        <p:grpSpPr>
          <a:xfrm>
            <a:off x="1142280" y="3429000"/>
            <a:ext cx="6358680" cy="2857680"/>
            <a:chOff x="1142280" y="3429000"/>
            <a:chExt cx="6358680" cy="2857680"/>
          </a:xfrm>
        </p:grpSpPr>
        <p:grpSp>
          <p:nvGrpSpPr>
            <p:cNvPr id="134" name="组合 95"/>
            <p:cNvGrpSpPr/>
            <p:nvPr/>
          </p:nvGrpSpPr>
          <p:grpSpPr>
            <a:xfrm>
              <a:off x="2714400" y="3429000"/>
              <a:ext cx="4786560" cy="2857680"/>
              <a:chOff x="2714400" y="3429000"/>
              <a:chExt cx="4786560" cy="2857680"/>
            </a:xfrm>
          </p:grpSpPr>
          <p:grpSp>
            <p:nvGrpSpPr>
              <p:cNvPr id="135" name="组合 66"/>
              <p:cNvGrpSpPr/>
              <p:nvPr/>
            </p:nvGrpSpPr>
            <p:grpSpPr>
              <a:xfrm>
                <a:off x="2714400" y="3429000"/>
                <a:ext cx="4715280" cy="1571760"/>
                <a:chOff x="2714400" y="3429000"/>
                <a:chExt cx="4715280" cy="1571760"/>
              </a:xfrm>
            </p:grpSpPr>
            <p:cxnSp>
              <p:nvCxnSpPr>
                <p:cNvPr id="136" name="AutoShape 14"/>
                <p:cNvCxnSpPr/>
                <p:nvPr/>
              </p:nvCxnSpPr>
              <p:spPr>
                <a:xfrm flipH="1">
                  <a:off x="3642840" y="4000320"/>
                  <a:ext cx="2160" cy="357840"/>
                </a:xfrm>
                <a:prstGeom prst="straightConnector1">
                  <a:avLst/>
                </a:prstGeom>
                <a:ln w="28440">
                  <a:solidFill>
                    <a:srgbClr val="9900cc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137" name="组合 63"/>
                <p:cNvGrpSpPr/>
                <p:nvPr/>
              </p:nvGrpSpPr>
              <p:grpSpPr>
                <a:xfrm>
                  <a:off x="2714400" y="3429000"/>
                  <a:ext cx="4715280" cy="1571760"/>
                  <a:chOff x="2714400" y="3429000"/>
                  <a:chExt cx="4715280" cy="1571760"/>
                </a:xfrm>
              </p:grpSpPr>
              <p:grpSp>
                <p:nvGrpSpPr>
                  <p:cNvPr id="138" name="组合 50"/>
                  <p:cNvGrpSpPr/>
                  <p:nvPr/>
                </p:nvGrpSpPr>
                <p:grpSpPr>
                  <a:xfrm>
                    <a:off x="2714400" y="3429000"/>
                    <a:ext cx="4715280" cy="1143000"/>
                    <a:chOff x="2714400" y="3429000"/>
                    <a:chExt cx="4715280" cy="1143000"/>
                  </a:xfrm>
                </p:grpSpPr>
                <p:sp>
                  <p:nvSpPr>
                    <p:cNvPr id="139" name="Rectangle 4"/>
                    <p:cNvSpPr/>
                    <p:nvPr/>
                  </p:nvSpPr>
                  <p:spPr>
                    <a:xfrm>
                      <a:off x="5643720" y="3429000"/>
                      <a:ext cx="1571760" cy="2142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    </a:t>
                      </a: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瘀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Rectangle 5"/>
                    <p:cNvSpPr/>
                    <p:nvPr/>
                  </p:nvSpPr>
                  <p:spPr>
                    <a:xfrm>
                      <a:off x="5429160" y="3994200"/>
                      <a:ext cx="2000520" cy="57780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9e75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肺泡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支气管黏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141" name="AutoShape 9"/>
                    <p:cNvCxnSpPr>
                      <a:stCxn id="139" idx="2"/>
                      <a:endCxn id="140" idx="0"/>
                    </p:cNvCxnSpPr>
                    <p:nvPr/>
                  </p:nvCxnSpPr>
                  <p:spPr>
                    <a:xfrm flipH="1">
                      <a:off x="6428520" y="3643560"/>
                      <a:ext cx="2160" cy="351360"/>
                    </a:xfrm>
                    <a:prstGeom prst="straightConnector1">
                      <a:avLst/>
                    </a:prstGeom>
                    <a:ln w="28440">
                      <a:solidFill>
                        <a:srgbClr val="009e75"/>
                      </a:solidFill>
                      <a:miter/>
                      <a:tailEnd len="med" type="triangle" w="med"/>
                    </a:ln>
                  </p:spPr>
                </p:cxnSp>
                <p:sp>
                  <p:nvSpPr>
                    <p:cNvPr id="142" name="线形标注 2 20"/>
                    <p:cNvSpPr/>
                    <p:nvPr/>
                  </p:nvSpPr>
                  <p:spPr>
                    <a:xfrm flipV="1" rot="10800000">
                      <a:off x="2714400" y="3643200"/>
                      <a:ext cx="1857600" cy="311040"/>
                    </a:xfrm>
                    <a:prstGeom prst="borderCallout2">
                      <a:avLst>
                        <a:gd name="adj1" fmla="val 18750"/>
                        <a:gd name="adj2" fmla="val -8333"/>
                        <a:gd name="adj3" fmla="val 18518"/>
                        <a:gd name="adj4" fmla="val -16666"/>
                        <a:gd name="adj5" fmla="val 113425"/>
                        <a:gd name="adj6" fmla="val -46296"/>
                      </a:avLst>
                    </a:prstGeom>
                    <a:solidFill>
                      <a:srgbClr val="ffffff"/>
                    </a:solidFill>
                    <a:ln w="25560">
                      <a:solidFill>
                        <a:srgbClr val="99669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990033"/>
                          </a:solidFill>
                          <a:latin typeface="Arial"/>
                          <a:ea typeface="华文新魏"/>
                        </a:rPr>
                        <a:t>毛细血管破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Rectangle 6"/>
                  <p:cNvSpPr/>
                  <p:nvPr/>
                </p:nvSpPr>
                <p:spPr>
                  <a:xfrm>
                    <a:off x="2714400" y="4357800"/>
                    <a:ext cx="1877400" cy="642960"/>
                  </a:xfrm>
                  <a:prstGeom prst="rect">
                    <a:avLst/>
                  </a:prstGeom>
                  <a:noFill/>
                  <a:ln w="284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990033"/>
                        </a:solidFill>
                        <a:latin typeface="Arial"/>
                        <a:ea typeface="华文新魏"/>
                      </a:rPr>
                      <a:t>小量咯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Arial"/>
                        <a:ea typeface="华文新魏"/>
                      </a:rPr>
                      <a:t>痰中带血</a:t>
                    </a: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" name="组合 69"/>
              <p:cNvGrpSpPr/>
              <p:nvPr/>
            </p:nvGrpSpPr>
            <p:grpSpPr>
              <a:xfrm>
                <a:off x="2785320" y="5214960"/>
                <a:ext cx="4715640" cy="577800"/>
                <a:chOff x="2785320" y="5214960"/>
                <a:chExt cx="4715640" cy="577800"/>
              </a:xfrm>
            </p:grpSpPr>
            <p:sp>
              <p:nvSpPr>
                <p:cNvPr id="145" name="Rectangle 5"/>
                <p:cNvSpPr/>
                <p:nvPr/>
              </p:nvSpPr>
              <p:spPr>
                <a:xfrm>
                  <a:off x="5403600" y="5214960"/>
                  <a:ext cx="2097360" cy="577800"/>
                </a:xfrm>
                <a:prstGeom prst="rect">
                  <a:avLst/>
                </a:prstGeom>
                <a:noFill/>
                <a:ln w="28440">
                  <a:solidFill>
                    <a:srgbClr val="009e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黏膜下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支气管静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46" name="线形标注 2 12"/>
                <p:cNvSpPr/>
                <p:nvPr/>
              </p:nvSpPr>
              <p:spPr>
                <a:xfrm flipV="1" rot="10800000">
                  <a:off x="2785320" y="5286240"/>
                  <a:ext cx="1644840" cy="285840"/>
                </a:xfrm>
                <a:prstGeom prst="borderCallout2">
                  <a:avLst>
                    <a:gd name="adj1" fmla="val 18750"/>
                    <a:gd name="adj2" fmla="val -8333"/>
                    <a:gd name="adj3" fmla="val 18518"/>
                    <a:gd name="adj4" fmla="val -16666"/>
                    <a:gd name="adj5" fmla="val 113425"/>
                    <a:gd name="adj6" fmla="val -46296"/>
                  </a:avLst>
                </a:prstGeom>
                <a:solidFill>
                  <a:srgbClr val="ffffff"/>
                </a:solidFill>
                <a:ln w="25560">
                  <a:solidFill>
                    <a:srgbClr val="9966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曲张破裂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" name="Rectangle 4"/>
              <p:cNvSpPr/>
              <p:nvPr/>
            </p:nvSpPr>
            <p:spPr>
              <a:xfrm>
                <a:off x="2856960" y="6001200"/>
                <a:ext cx="1571760" cy="285480"/>
              </a:xfrm>
              <a:prstGeom prst="rect">
                <a:avLst/>
              </a:prstGeom>
              <a:noFill/>
              <a:ln w="28440">
                <a:solidFill>
                  <a:srgbClr val="009e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   </a:t>
                </a: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量咯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Box 97"/>
            <p:cNvSpPr/>
            <p:nvPr/>
          </p:nvSpPr>
          <p:spPr>
            <a:xfrm>
              <a:off x="1142280" y="4000320"/>
              <a:ext cx="911880" cy="171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  </a:t>
              </a: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出血机制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直接连接符 21"/>
          <p:cNvSpPr/>
          <p:nvPr/>
        </p:nvSpPr>
        <p:spPr>
          <a:xfrm flipV="1">
            <a:off x="2714760" y="4680000"/>
            <a:ext cx="1877760" cy="1440"/>
          </a:xfrm>
          <a:prstGeom prst="line">
            <a:avLst/>
          </a:prstGeom>
          <a:ln w="9360">
            <a:solidFill>
              <a:srgbClr val="00b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0" name="AutoShape 14"/>
          <p:cNvCxnSpPr/>
          <p:nvPr/>
        </p:nvCxnSpPr>
        <p:spPr>
          <a:xfrm flipH="1">
            <a:off x="3571560" y="5643720"/>
            <a:ext cx="2160" cy="35784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二）病因与发病机制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全身性疾病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液病：如白血病、血小板减少性紫癜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急性传染病：流行性出血热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身免疫性疾病：见于白塞病、结节性多动脉炎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其他：如遗传性毛细血管扩张症、各种原因所致的 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DIC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214280"/>
            <a:ext cx="84866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确认是否为咯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组合 6"/>
          <p:cNvGrpSpPr/>
          <p:nvPr/>
        </p:nvGrpSpPr>
        <p:grpSpPr>
          <a:xfrm>
            <a:off x="1071720" y="2214720"/>
            <a:ext cx="7286400" cy="4285800"/>
            <a:chOff x="1071720" y="2214720"/>
            <a:chExt cx="7286400" cy="4285800"/>
          </a:xfrm>
        </p:grpSpPr>
        <p:pic>
          <p:nvPicPr>
            <p:cNvPr id="158" name="Picture 5" descr=""/>
            <p:cNvPicPr/>
            <p:nvPr/>
          </p:nvPicPr>
          <p:blipFill>
            <a:blip r:embed="rId1"/>
            <a:stretch/>
          </p:blipFill>
          <p:spPr>
            <a:xfrm>
              <a:off x="1071720" y="2350440"/>
              <a:ext cx="7286400" cy="41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5"/>
            <p:cNvSpPr/>
            <p:nvPr/>
          </p:nvSpPr>
          <p:spPr>
            <a:xfrm>
              <a:off x="3390120" y="2214720"/>
              <a:ext cx="861120" cy="35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728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的特点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评估咯血患者的年龄特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量的临床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的颜色和性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93880" indent="-15732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5715000" y="2500200"/>
            <a:ext cx="2857680" cy="1618560"/>
          </a:xfrm>
          <a:prstGeom prst="rect">
            <a:avLst/>
          </a:prstGeom>
          <a:noFill/>
          <a:ln w="2844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每日咯血量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内为小量，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等量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以上或一次咯血在 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300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500ml 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大量。一般少量咯血</a:t>
            </a:r>
            <a:r>
              <a:rPr b="0" lang="en-US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可仅表现为痰中带血。中等量以上咯血，咯血前患者可有胸闷、咽痒、咳嗽等先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Box 48"/>
          <p:cNvSpPr/>
          <p:nvPr/>
        </p:nvSpPr>
        <p:spPr>
          <a:xfrm>
            <a:off x="6215040" y="1928880"/>
            <a:ext cx="185724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咯血的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6" descr="C:\Documents and Settings\Administrator\Application Data\360se6\Application\User Data\temp\u=765158148,3396907982&amp;fm=21&amp;gp=0.jpg"/>
          <p:cNvPicPr/>
          <p:nvPr/>
        </p:nvPicPr>
        <p:blipFill>
          <a:blip r:embed="rId1"/>
          <a:stretch/>
        </p:blipFill>
        <p:spPr>
          <a:xfrm>
            <a:off x="1646280" y="3859200"/>
            <a:ext cx="21765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09400" indent="-16416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与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胸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大量脓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伴皮肤、黏膜出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48880" indent="-1494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61616"/>
                </a:solidFill>
                <a:latin typeface="Verdana"/>
                <a:ea typeface="宋体"/>
              </a:rPr>
              <a:t>   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8" descr="C:\Documents and Settings\Administrator\Application Data\360se6\Application\User Data\temp\u=1531314385,1584204015&amp;fm=21&amp;gp=0.jpg"/>
          <p:cNvPicPr/>
          <p:nvPr/>
        </p:nvPicPr>
        <p:blipFill>
          <a:blip r:embed="rId1"/>
          <a:stretch/>
        </p:blipFill>
        <p:spPr>
          <a:xfrm>
            <a:off x="5857920" y="1785960"/>
            <a:ext cx="2036880" cy="164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Documents and Settings\Administrator\Application Data\360se6\Application\User Data\temp\u=2626546494,1699482214&amp;fm=21&amp;gp=0.jpg"/>
          <p:cNvPicPr/>
          <p:nvPr/>
        </p:nvPicPr>
        <p:blipFill>
          <a:blip r:embed="rId2"/>
          <a:stretch/>
        </p:blipFill>
        <p:spPr>
          <a:xfrm>
            <a:off x="5999040" y="3998880"/>
            <a:ext cx="1859040" cy="1736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cuments and Settings\Administrator\Application Data\360se6\Application\User Data\temp\u=3170954899,1170103886&amp;fm=21&amp;gp=0.jpg"/>
          <p:cNvPicPr/>
          <p:nvPr/>
        </p:nvPicPr>
        <p:blipFill>
          <a:blip r:embed="rId3"/>
          <a:stretch/>
        </p:blipFill>
        <p:spPr>
          <a:xfrm>
            <a:off x="1785960" y="4286160"/>
            <a:ext cx="24876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85840" y="121392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咯血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窒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失血性休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肺不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继发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咯血相关的疾病史或诱发因素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525600" indent="-16920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875880" indent="-15408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咯血后有无采取相应的处理措施及其效果等，包括诊断、治疗的经过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21:53Z</dcterms:modified>
  <cp:revision>1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